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145088"/>
  <p:notesSz cx="99790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538-5F72-4AB1-93BA-650DB546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378-12F1-4D9D-A885-3A9E840F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98D-FE50-47E7-988C-EEE2F167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3D2A-164B-4539-AD25-7BF42BD8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0DE2-5142-43D8-95DF-39756DDE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307-698C-4125-8B39-35C7F12B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AE6-F060-4507-8841-4D9F014E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DD4-2632-452C-B4CB-1DC36770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1BD7-DD84-43A5-98F7-5B9B106E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9EE-C503-4F81-8613-53887379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6E4-3B7C-4BAC-9833-A7C7D2B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804A-C773-414C-B89B-9307A04B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C860E470-E9B1-44A0-AFEC-B640DA77870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konstantinov.ruk\Desktop\Наблюдательный совет 4.06.2018 - копия\лого_2018.png"/>
          <p:cNvPicPr/>
          <p:nvPr/>
        </p:nvPicPr>
        <p:blipFill>
          <a:blip r:embed="rId1"/>
          <a:stretch/>
        </p:blipFill>
        <p:spPr>
          <a:xfrm>
            <a:off x="2200320" y="480960"/>
            <a:ext cx="4670280" cy="4267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0" y="60480"/>
            <a:ext cx="914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Участие команд ДОСААФ России в рамках Всеармейских соревнований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рмейских международных игр – 2018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\Desktop\Буклет готов часть 1.gif"/>
          <p:cNvPicPr/>
          <p:nvPr/>
        </p:nvPicPr>
        <p:blipFill>
          <a:blip r:embed="rId2"/>
          <a:srcRect l="18214" t="0" r="17948" b="38906"/>
          <a:stretch/>
        </p:blipFill>
        <p:spPr>
          <a:xfrm>
            <a:off x="8339040" y="52560"/>
            <a:ext cx="777960" cy="43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20760" y="617400"/>
          <a:ext cx="8502480" cy="3845160"/>
        </p:xfrm>
        <a:graphic>
          <a:graphicData uri="http://schemas.openxmlformats.org/drawingml/2006/table">
            <a:tbl>
              <a:tblPr/>
              <a:tblGrid>
                <a:gridCol w="252360"/>
                <a:gridCol w="644400"/>
                <a:gridCol w="4338720"/>
                <a:gridCol w="1141560"/>
                <a:gridCol w="1217520"/>
                <a:gridCol w="907920"/>
              </a:tblGrid>
              <a:tr h="584280"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лощад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менование конкурс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Лига ветеран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Лига военно-патриотически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убов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  <a:tc>
                  <a:txBody>
                    <a:bodyPr lIns="18720" rIns="18720" tIns="57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Спортивная лиг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ce5"/>
                    </a:solidFill>
                  </a:tcPr>
                </a:tc>
              </a:tr>
              <a:tr h="177840">
                <a:tc gridSpan="6"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еждународный этап соревнова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Танковый биатлон»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олигон 2 мсд "Алабино", Московская обл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43812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Отличники войсковой разведки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(НВВКУ, полигон «Новосибирский», г.Новосибирск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4366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Десантный взвод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714 полигон ВДВ  «Струги Красные», Псковская обл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3412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Мастера автобронетанковой техники»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1437 УЦ, пмс АБТС, (полигон «Острогожский») г. Острогоржск, Воронежская обл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2476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Рембат»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олигон ОАБИИ «Карьер», г.Омск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43812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Военно-медицинская эстафета»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УЦ ВМА им. Кирова, г.Санкт-Петербур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2476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Мастер-оружейник»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АИИ, УК «Константиновка», г.Пенз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24768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Верный друг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(470 УЦ сс ВС РФ, г. Дмитров, Московская обл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</a:tr>
              <a:tr h="438120"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 algn="ctr"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ts val="1661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Снайперский рубеж»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олигон 38 одшбр, г.Брест, «Брестский», Республика Беларусь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01200"/>
                        </a:gs>
                        <a:gs pos="100000">
                          <a:srgbClr val="ff2800"/>
                        </a:gs>
                      </a:gsLst>
                      <a:lin ang="18900000"/>
                    </a:gradFill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720" rIns="18720" tIns="576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720" marR="18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8T05:38:55Z</dcterms:created>
  <dc:creator>Паршин</dc:creator>
  <dc:description/>
  <dc:language>en-US</dc:language>
  <cp:lastModifiedBy>Константинов Владимир Иванович</cp:lastModifiedBy>
  <cp:lastPrinted>2016-11-01T14:56:14Z</cp:lastPrinted>
  <dcterms:modified xsi:type="dcterms:W3CDTF">2018-07-05T12:10:47Z</dcterms:modified>
  <cp:revision>584</cp:revision>
  <dc:subject/>
  <dc:title>Презентация PowerPoint</dc:title>
</cp:coreProperties>
</file>