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45088"/>
  <p:notesSz cx="99790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FD8-D1CA-4D0F-B467-6A7C4B6B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C20-9E9C-48E6-8A9D-EB61BE5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70D-891E-496E-9424-7A5E0DE3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39C-9BD9-4D40-9820-442A65CA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4E0-2076-4AAA-AEF6-1BD287DC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AD7-84BE-43CD-9C85-63350D48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D17-39EF-409C-8D32-CB908111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B6D-4C09-476E-BC29-ECF31F86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6DA-5551-48FB-AF6F-2153C670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E7C-61BC-444A-881D-D6D839AD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F43-7AE8-4B1A-BD1C-101EF75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252-B72D-4696-A57A-0B73F40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1BD2005E-F26B-4436-A195-0A05E25108F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konstantinov.ruk\Desktop\Наблюдательный совет 4.06.2018 - копия\лого_2018.png"/>
          <p:cNvPicPr/>
          <p:nvPr/>
        </p:nvPicPr>
        <p:blipFill>
          <a:blip r:embed="rId1"/>
          <a:stretch/>
        </p:blipFill>
        <p:spPr>
          <a:xfrm>
            <a:off x="2200320" y="480960"/>
            <a:ext cx="4670280" cy="4267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0" y="60480"/>
            <a:ext cx="914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частие команд ДОСААФ России в рамках Всеармейских соревнований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мейских международных игр – 2018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Буклет готов часть 1.gif"/>
          <p:cNvPicPr/>
          <p:nvPr/>
        </p:nvPicPr>
        <p:blipFill>
          <a:blip r:embed="rId2"/>
          <a:srcRect l="18214" t="0" r="17948" b="38906"/>
          <a:stretch/>
        </p:blipFill>
        <p:spPr>
          <a:xfrm>
            <a:off x="8339040" y="52560"/>
            <a:ext cx="777960" cy="43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20760" y="617400"/>
          <a:ext cx="8502480" cy="3845160"/>
        </p:xfrm>
        <a:graphic>
          <a:graphicData uri="http://schemas.openxmlformats.org/drawingml/2006/table">
            <a:tbl>
              <a:tblPr/>
              <a:tblGrid>
                <a:gridCol w="252360"/>
                <a:gridCol w="644400"/>
                <a:gridCol w="4338720"/>
                <a:gridCol w="1141560"/>
                <a:gridCol w="1217520"/>
                <a:gridCol w="907920"/>
              </a:tblGrid>
              <a:tr h="584280"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оща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конкур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Лига ветера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Лига военно-патриот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уб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портивная лиг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177840">
                <a:tc gridSpan="6"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дународный этап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Танковый биатлон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олигон 2 мсд "Алабино", Москов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812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Отличники войсковой разведки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(НВВКУ, полигон «Новосибирский», г.Новосибирс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6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Десантный взвод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714 полигон ВДВ  «Струги Красные», Псков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3412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Мастера автобронетанковой техники»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437 УЦ, пмс АБТС, (полигон «Острогожский») г. Острогоржск, Воронеж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Рембат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олигон ОАБИИ «Карьер», г.Омс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812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Военно-медицинская эстафета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УЦ ВМА им. Кирова, г.Санкт-Петербур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Мастер-оружейник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АИИ, УК «Константиновка», г.Пенз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Верный друг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470 УЦ сс ВС РФ, г. Дмитров, Москов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812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найперский рубеж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олигон 38 одшбр, г.Брест, «Брестский», Республика Беларус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05:38:55Z</dcterms:created>
  <dc:creator>Паршин</dc:creator>
  <dc:description/>
  <dc:language>en-US</dc:language>
  <cp:lastModifiedBy>Константинов Владимир Иванович</cp:lastModifiedBy>
  <cp:lastPrinted>2016-11-01T14:56:14Z</cp:lastPrinted>
  <dcterms:modified xsi:type="dcterms:W3CDTF">2018-07-05T12:10:47Z</dcterms:modified>
  <cp:revision>584</cp:revision>
  <dc:subject/>
  <dc:title>Презентация PowerPoint</dc:title>
</cp:coreProperties>
</file>